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6.wmf" ContentType="image/x-wmf"/>
  <Override PartName="/ppt/media/genius.wav" ContentType="audio/x-wav"/>
  <Override PartName="/ppt/media/learn-ya.wav" ContentType="audio/x-wav"/>
  <Override PartName="/ppt/media/whoosh.wav" ContentType="audio/x-wav"/>
  <Override PartName="/ppt/media/laser.wav" ContentType="audio/x-wav"/>
  <Override PartName="/ppt/media/applause.wav" ContentType="audio/x-wav"/>
  <Override PartName="/ppt/media/plyball.wav" ContentType="audio/x-wav"/>
  <Override PartName="/ppt/media/image1.wmf" ContentType="image/x-wmf"/>
  <Override PartName="/ppt/media/cutout_jb.wav" ContentType="audio/x-wav"/>
  <Override PartName="/ppt/media/image2.wmf" ContentType="image/x-wmf"/>
  <Override PartName="/ppt/media/nbchime.wav" ContentType="audio/x-wav"/>
  <Override PartName="/ppt/media/amisshere.wav" ContentType="audio/x-wav"/>
  <Override PartName="/ppt/media/image3.wmf" ContentType="image/x-wmf"/>
  <Override PartName="/ppt/media/babycrying.wav" ContentType="audio/x-wav"/>
  <Override PartName="/ppt/media/image5.jpeg" ContentType="image/jpeg"/>
  <Override PartName="/ppt/media/image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5F13-EE30-422B-97F6-0C52AFFD2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243D-6C13-4179-B007-8FBC0BEDB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566A-2F3B-4D96-86E2-BA7C7C75A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432A-DC57-4535-A529-B9E74E01C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A8C3C-3CD7-40D4-A1A8-4941A3A3E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BEEB5-99ED-4EEE-B415-51C21A927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9A27B-C1E2-46E1-ADB1-FBD27893A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BB347-5B51-4163-A0FA-4CAD0E8A4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2C523-ECC6-4B00-8FBC-583629D7B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8A6C3-D463-4B75-9364-1BEF44CFA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F4CDE-A06B-4F47-B6A8-64CBB3DE4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0253-036F-4B84-8A39-F8F6A113B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277CF-2F57-4B68-83D7-0C6602BA6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BE353-6954-4A66-9713-DFA9546E7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114AE-0A59-489E-87BA-F784201B0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B1D90-AEFF-4314-9181-8E604350A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E8C7B-EC25-4D1E-BFC6-D5B291FF6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4C26-A769-48B6-9D33-D82DAD450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D173-3A24-4803-BA7E-3A598CA96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175B-3CC8-4CE1-A419-375B58656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DBD3-1DB6-49B3-98C9-DC1180CE1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31CD-F9B0-4C53-8CB9-48FDDD535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0CFE-7D1E-4FBD-A092-D3DC6C41A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2BDB-402B-438E-AD33-79E5AFD6A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CBB8F-F4B7-4602-B7BC-09F1047E3A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D4528-B015-461D-9169-A23716F2F5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cutout_jb.wav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genius.wav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audio" Target="../media/nbchime.wav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learn-ya.wav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plyball.wav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amisshere.wav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babycrying.wav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Rosa and Blanca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reated by Joanne Whitle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cember 4, 2007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219320" y="3429000"/>
            <a:ext cx="73152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Comic Sans MS"/>
              </a:rPr>
              <a:t>Their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 dad will cut the pumpkin.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1981080" y="304920"/>
            <a:ext cx="2136960" cy="318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304920" y="3352680"/>
            <a:ext cx="83055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Two of these ladies are my</a:t>
            </a:r>
            <a:r>
              <a:rPr b="0" lang="en-US" sz="6600" spc="-1" strike="noStrike">
                <a:solidFill>
                  <a:srgbClr val="ff0000"/>
                </a:solidFill>
                <a:latin typeface="Comic Sans MS"/>
              </a:rPr>
              <a:t> daughters  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2362320" y="0"/>
            <a:ext cx="4419360" cy="331488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3048120" y="4343400"/>
            <a:ext cx="4647960" cy="11430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304920" y="3352680"/>
            <a:ext cx="883908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Two of these ladies are my</a:t>
            </a:r>
            <a:r>
              <a:rPr b="0" lang="en-US" sz="66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8800" spc="-1" strike="noStrike">
                <a:solidFill>
                  <a:srgbClr val="ff0000"/>
                </a:solidFill>
                <a:latin typeface="Comic Sans MS"/>
              </a:rPr>
              <a:t>daughters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2666880" y="304920"/>
            <a:ext cx="4114800" cy="308592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4191120" y="609480"/>
            <a:ext cx="380880" cy="381240"/>
          </a:xfrm>
          <a:prstGeom prst="uturnArrow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/>
          <p:cNvSpPr/>
          <p:nvPr/>
        </p:nvSpPr>
        <p:spPr>
          <a:xfrm>
            <a:off x="3352680" y="609480"/>
            <a:ext cx="381240" cy="381240"/>
          </a:xfrm>
          <a:prstGeom prst="uturnArrow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304920" y="3352680"/>
            <a:ext cx="8839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The man is    alone    at the movies.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2895480" y="304920"/>
            <a:ext cx="3429000" cy="276696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4876920" y="3352680"/>
            <a:ext cx="3733560" cy="9907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304920" y="3352680"/>
            <a:ext cx="883908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The man is </a:t>
            </a:r>
            <a:r>
              <a:rPr b="0" lang="en-US" sz="8800" spc="-1" strike="noStrike">
                <a:solidFill>
                  <a:srgbClr val="ff0000"/>
                </a:solidFill>
                <a:latin typeface="Comic Sans MS"/>
              </a:rPr>
              <a:t>alone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 at the movies.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2895480" y="304920"/>
            <a:ext cx="3429000" cy="276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0" y="2286000"/>
            <a:ext cx="883908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This is one-   half   of a circle.  It is called a semi-circle.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ubChord"/>
          <p:cNvSpPr/>
          <p:nvPr/>
        </p:nvSpPr>
        <p:spPr>
          <a:xfrm rot="19404600">
            <a:off x="2971800" y="-533520"/>
            <a:ext cx="2266920" cy="2266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163" y="3163"/>
                </a:moveTo>
                <a:arcTo wR="10800" hR="10800" stAng="-8100000" swAng="-10800000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2362320"/>
            <a:ext cx="2895840" cy="106668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2057400"/>
            <a:ext cx="88390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This is one- </a:t>
            </a:r>
            <a:r>
              <a:rPr b="0" lang="en-US" sz="8800" spc="-1" strike="noStrike">
                <a:solidFill>
                  <a:srgbClr val="ff0000"/>
                </a:solidFill>
                <a:latin typeface="Comic Sans MS"/>
              </a:rPr>
              <a:t>half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 of a circle.  It is called a semi-circle.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ubChord"/>
          <p:cNvSpPr/>
          <p:nvPr/>
        </p:nvSpPr>
        <p:spPr>
          <a:xfrm rot="20425800">
            <a:off x="2590560" y="-304920"/>
            <a:ext cx="2266920" cy="2266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163" y="3163"/>
                </a:moveTo>
                <a:arcTo wR="10800" hR="10800" stAng="-8100000" swAng="-10800000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61760" y="533160"/>
            <a:ext cx="68706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Watch the words carefully as they flash on the screen.  Spell the words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980720" y="2895120"/>
            <a:ext cx="48769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 algn="ctr">
              <a:spcBef>
                <a:spcPts val="36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600" spc="-1" strike="noStrike">
                <a:solidFill>
                  <a:srgbClr val="000000"/>
                </a:solidFill>
                <a:latin typeface="Comic Sans MS"/>
              </a:rPr>
              <a:t>alone</a:t>
            </a:r>
            <a:endParaRPr b="0" lang="en-US" sz="14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1980720" y="2895120"/>
            <a:ext cx="48769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ctr">
              <a:spcBef>
                <a:spcPts val="36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600" spc="-1" strike="noStrike">
                <a:solidFill>
                  <a:srgbClr val="000000"/>
                </a:solidFill>
                <a:latin typeface="Comic Sans MS"/>
              </a:rPr>
              <a:t>buy</a:t>
            </a:r>
            <a:endParaRPr b="0" lang="en-US" sz="14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304920" y="2285640"/>
            <a:ext cx="85341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spcBef>
                <a:spcPts val="33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300" spc="-1" strike="noStrike">
                <a:solidFill>
                  <a:srgbClr val="000000"/>
                </a:solidFill>
                <a:latin typeface="Comic Sans MS"/>
              </a:rPr>
              <a:t>daughters</a:t>
            </a:r>
            <a:endParaRPr b="0" lang="en-US" sz="133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ir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many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lone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buy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half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younges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daughter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228600"/>
            <a:ext cx="716292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Chant the words one time as they appear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304920" y="2285640"/>
            <a:ext cx="85341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spcBef>
                <a:spcPts val="33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300" spc="-1" strike="noStrike">
                <a:solidFill>
                  <a:srgbClr val="000000"/>
                </a:solidFill>
                <a:latin typeface="Comic Sans MS"/>
              </a:rPr>
              <a:t>youngest</a:t>
            </a:r>
            <a:endParaRPr b="0" lang="en-US" sz="133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304920" y="2285640"/>
            <a:ext cx="85341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spcBef>
                <a:spcPts val="33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300" spc="-1" strike="noStrike">
                <a:solidFill>
                  <a:srgbClr val="000000"/>
                </a:solidFill>
                <a:latin typeface="Comic Sans MS"/>
              </a:rPr>
              <a:t>half</a:t>
            </a:r>
            <a:endParaRPr b="0" lang="en-US" sz="133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304920" y="2285640"/>
            <a:ext cx="85341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spcBef>
                <a:spcPts val="33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300" spc="-1" strike="noStrike">
                <a:solidFill>
                  <a:srgbClr val="000000"/>
                </a:solidFill>
                <a:latin typeface="Comic Sans MS"/>
              </a:rPr>
              <a:t>many</a:t>
            </a:r>
            <a:endParaRPr b="0" lang="en-US" sz="133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304920" y="2285640"/>
            <a:ext cx="85341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spcBef>
                <a:spcPts val="33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300" spc="-1" strike="noStrike">
                <a:solidFill>
                  <a:srgbClr val="000000"/>
                </a:solidFill>
                <a:latin typeface="Comic Sans MS"/>
              </a:rPr>
              <a:t>their</a:t>
            </a:r>
            <a:endParaRPr b="0" lang="en-US" sz="133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304920" y="2285640"/>
            <a:ext cx="85341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spcBef>
                <a:spcPts val="33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300" spc="-1" strike="noStrike">
                <a:solidFill>
                  <a:srgbClr val="000000"/>
                </a:solidFill>
                <a:latin typeface="Comic Sans MS"/>
              </a:rPr>
              <a:t>Great job!</a:t>
            </a:r>
            <a:endParaRPr b="0" lang="en-US" sz="133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2819520" y="380880"/>
            <a:ext cx="3733560" cy="301176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1219320" y="3809880"/>
            <a:ext cx="7315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I am the    youngest child here.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"/>
          <p:cNvSpPr/>
          <p:nvPr/>
        </p:nvSpPr>
        <p:spPr>
          <a:xfrm>
            <a:off x="4495680" y="3886200"/>
            <a:ext cx="4114800" cy="9907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2819520" y="380880"/>
            <a:ext cx="3733560" cy="301176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1219320" y="3809880"/>
            <a:ext cx="73152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I am the </a:t>
            </a:r>
            <a:r>
              <a:rPr b="0" lang="en-US" sz="7200" spc="-1" strike="noStrike">
                <a:solidFill>
                  <a:srgbClr val="ff0000"/>
                </a:solidFill>
                <a:latin typeface="Comic Sans MS"/>
              </a:rPr>
              <a:t>youngest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 child here.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219320" y="3809880"/>
            <a:ext cx="7315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There are many different costumes.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2286000" y="533520"/>
            <a:ext cx="3962520" cy="272736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5029200" y="3886200"/>
            <a:ext cx="3505320" cy="9907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219320" y="3429000"/>
            <a:ext cx="73152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There are </a:t>
            </a:r>
            <a:r>
              <a:rPr b="0" lang="en-US" sz="8000" spc="-1" strike="noStrike">
                <a:solidFill>
                  <a:srgbClr val="ff0000"/>
                </a:solidFill>
                <a:latin typeface="Comic Sans MS"/>
              </a:rPr>
              <a:t>many 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different costumes.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2286000" y="533520"/>
            <a:ext cx="3962520" cy="272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219320" y="3429000"/>
            <a:ext cx="7315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Rosa will   buy    her baby some diapers.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3276720" y="38088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4495680" y="3505320"/>
            <a:ext cx="2590920" cy="9903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219320" y="3429000"/>
            <a:ext cx="73152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Rosa will </a:t>
            </a:r>
            <a:r>
              <a:rPr b="0" lang="en-US" sz="8000" spc="-1" strike="noStrike">
                <a:solidFill>
                  <a:srgbClr val="ff0000"/>
                </a:solidFill>
                <a:latin typeface="Comic Sans MS"/>
              </a:rPr>
              <a:t>buy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 her baby some diapers.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3276720" y="380880"/>
            <a:ext cx="297180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219320" y="3429000"/>
            <a:ext cx="7315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Their     dad will cut the pumpkin.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981080" y="304920"/>
            <a:ext cx="2136960" cy="318924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1219320" y="3429000"/>
            <a:ext cx="3124080" cy="9907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5T05:01:34Z</dcterms:created>
  <dc:creator>default</dc:creator>
  <dc:description/>
  <cp:keywords/>
  <dc:language>en-US</dc:language>
  <cp:lastModifiedBy>default</cp:lastModifiedBy>
  <dcterms:modified xsi:type="dcterms:W3CDTF">2007-12-05T13:20:33Z</dcterms:modified>
  <cp:revision>1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2037651033</vt:lpwstr>
  </property>
</Properties>
</file>